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BDE-0EEE-467D-8DCA-40A801CD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2DF-7B71-4A1F-89EB-E5C636CA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8EC-49A0-4E8B-A561-FC68A8BD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5EF-FD0D-454F-923D-90E75FED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FE16-4A90-4E33-BF1B-6CAC33B1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9FAA-A70F-42B6-841B-1AEB36F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B4C1-8F60-4044-9598-5D3C19B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7CC3-8384-4651-BFF4-A4531184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9C4A-E28E-4772-848C-2A7BDA4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20E1-E52F-4238-953E-A70FD1B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E9D1-3FC5-4306-907F-9835FB1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4CE-6F9B-4F85-93DD-CB934C1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AAE3-E067-464F-8F1F-C890481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AE0E-6949-4DCE-AFBA-AF7780C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4B27-D3E0-4194-BF4C-72C45B94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935D-9B45-440D-BDF2-A612DBE1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CC03-A382-400F-9607-FE4A1086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6C5-FDD5-41A4-954A-3C3AC43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BA1-5330-4ED4-957F-5F8BF05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FC7-233F-4F03-8306-B29671E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DAD-CD80-41E2-A95B-4017C273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528-EC8F-41A3-B59E-B5FD38C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8F9-917F-405D-997D-488DA8C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2F3-DECD-4BBA-9992-4DF4E07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342E-CFB7-4B70-93D2-E606F6402F5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19C-CC95-4956-9B0E-DBC1760C73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" Target="slide10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835280" y="2565360"/>
            <a:ext cx="48243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腹有诗书气自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04640"/>
            <a:ext cx="88203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概括内容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首词上下两阕各写了什么内容？用简洁的语言概括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上阕：绘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北方壮丽雪景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），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赞（          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阕：评（     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颂（                           ）。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765000"/>
            <a:ext cx="8820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这首词上下两阙各写了什么内容？用简洁的语言概括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上阕：绘（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北方壮丽雪景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），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赞（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祖国大好河山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阕：评（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历史英雄人物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颂（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产阶级英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）。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907920"/>
            <a:ext cx="8064360" cy="17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概括主旨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这首词以宏伟的气魄，生花的妙笔，写景论史，热情赞美祖国的大好河山，歌颂无产阶级革命英雄，表现了诗人作为一代“风流人物”要为中华民族建功立业的伟大抱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长城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571760" y="1500120"/>
            <a:ext cx="66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"/>
                <a:ea typeface="楷体"/>
              </a:rPr>
              <a:t>沁园春</a:t>
            </a:r>
            <a:r>
              <a:rPr b="1" lang="zh-CN" sz="9600" spc="-1" strike="noStrike">
                <a:solidFill>
                  <a:srgbClr val="0000ff"/>
                </a:solidFill>
                <a:latin typeface="楷体"/>
                <a:ea typeface="楷体"/>
              </a:rPr>
              <a:t>·</a:t>
            </a:r>
            <a:r>
              <a:rPr b="1" lang="zh-CN" sz="9600" spc="-1" strike="noStrike">
                <a:solidFill>
                  <a:srgbClr val="0000ff"/>
                </a:solidFill>
                <a:latin typeface="楷体"/>
                <a:ea typeface="楷体"/>
              </a:rPr>
              <a:t>雪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140360" y="3429000"/>
            <a:ext cx="40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楷体"/>
              </a:rPr>
              <a:t>毛泽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楷体"/>
              </a:rPr>
              <a:t>一九三六年二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7" descr="毛泽东头像67"/>
          <p:cNvPicPr/>
          <p:nvPr/>
        </p:nvPicPr>
        <p:blipFill>
          <a:blip r:embed="rId2"/>
          <a:stretch/>
        </p:blipFill>
        <p:spPr>
          <a:xfrm>
            <a:off x="3276720" y="2606760"/>
            <a:ext cx="3028680" cy="425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mao9"/>
          <p:cNvPicPr/>
          <p:nvPr/>
        </p:nvPicPr>
        <p:blipFill>
          <a:blip r:embed="rId3"/>
          <a:stretch/>
        </p:blipFill>
        <p:spPr>
          <a:xfrm>
            <a:off x="2971800" y="3484440"/>
            <a:ext cx="3749760" cy="337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毛与邓"/>
          <p:cNvPicPr/>
          <p:nvPr/>
        </p:nvPicPr>
        <p:blipFill>
          <a:blip r:embed="rId4"/>
          <a:stretch/>
        </p:blipFill>
        <p:spPr>
          <a:xfrm>
            <a:off x="2819520" y="3905280"/>
            <a:ext cx="4024080" cy="295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毛泽东坐藤椅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3352680" y="3110040"/>
            <a:ext cx="2822760" cy="374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mzd"/>
          <p:cNvPicPr/>
          <p:nvPr/>
        </p:nvPicPr>
        <p:blipFill>
          <a:blip r:embed="rId6"/>
          <a:stretch/>
        </p:blipFill>
        <p:spPr>
          <a:xfrm>
            <a:off x="3276720" y="2290680"/>
            <a:ext cx="3163680" cy="456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毛泽东1"/>
          <p:cNvPicPr/>
          <p:nvPr/>
        </p:nvPicPr>
        <p:blipFill>
          <a:blip r:embed="rId7"/>
          <a:stretch/>
        </p:blipFill>
        <p:spPr>
          <a:xfrm>
            <a:off x="6508800" y="1600200"/>
            <a:ext cx="2635200" cy="358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mao1"/>
          <p:cNvPicPr/>
          <p:nvPr/>
        </p:nvPicPr>
        <p:blipFill>
          <a:blip r:embed="rId8"/>
          <a:stretch/>
        </p:blipFill>
        <p:spPr>
          <a:xfrm>
            <a:off x="6400800" y="1371600"/>
            <a:ext cx="274320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ao4"/>
          <p:cNvPicPr/>
          <p:nvPr/>
        </p:nvPicPr>
        <p:blipFill>
          <a:blip r:embed="rId9"/>
          <a:stretch/>
        </p:blipFill>
        <p:spPr>
          <a:xfrm>
            <a:off x="6256440" y="1371600"/>
            <a:ext cx="2887560" cy="386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ao5"/>
          <p:cNvPicPr/>
          <p:nvPr/>
        </p:nvPicPr>
        <p:blipFill>
          <a:blip r:embed="rId10"/>
          <a:stretch/>
        </p:blipFill>
        <p:spPr>
          <a:xfrm>
            <a:off x="5334120" y="1371600"/>
            <a:ext cx="3809880" cy="3727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mao12"/>
          <p:cNvPicPr/>
          <p:nvPr/>
        </p:nvPicPr>
        <p:blipFill>
          <a:blip r:embed="rId11"/>
          <a:stretch/>
        </p:blipFill>
        <p:spPr>
          <a:xfrm>
            <a:off x="6199200" y="1371600"/>
            <a:ext cx="2944800" cy="3981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395280" y="260280"/>
            <a:ext cx="3348000" cy="67068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领袖风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6" descr="mao7"/>
          <p:cNvPicPr/>
          <p:nvPr/>
        </p:nvPicPr>
        <p:blipFill>
          <a:blip r:embed="rId12"/>
          <a:stretch/>
        </p:blipFill>
        <p:spPr>
          <a:xfrm>
            <a:off x="1447920" y="990720"/>
            <a:ext cx="6480000" cy="4879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mao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0" y="0"/>
            <a:ext cx="4572000" cy="100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毛泽东（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893 — 1976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）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无产阶级革命家、政治家、军事家，中国共产党、中国人民解放军和中华人民共和国的主要缔造者，中国共产党和中国人民的伟大领袖。字润之，湖南湘潭韶山人。毛泽东也是杰出的诗人，有许多大气磅礴的诗作，主要作品有《毛泽东选集》《毛泽东军事文选》《毛泽东诗词》等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835280" y="0"/>
            <a:ext cx="7308360" cy="6857640"/>
            <a:chOff x="1835280" y="0"/>
            <a:chExt cx="7308360" cy="6857640"/>
          </a:xfrm>
        </p:grpSpPr>
        <p:sp>
          <p:nvSpPr>
            <p:cNvPr id="101" name=""/>
            <p:cNvSpPr/>
            <p:nvPr/>
          </p:nvSpPr>
          <p:spPr>
            <a:xfrm>
              <a:off x="8815320" y="0"/>
              <a:ext cx="246240" cy="6857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dddddd"/>
                </a:gs>
                <a:gs pos="100000">
                  <a:srgbClr val="ffff6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33240" y="182520"/>
              <a:ext cx="410400" cy="649188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35280" y="182520"/>
              <a:ext cx="6897960" cy="649188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74360" y="1462680"/>
              <a:ext cx="5501880" cy="40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574360" y="1468440"/>
              <a:ext cx="5501880" cy="4108680"/>
            </a:xfrm>
            <a:prstGeom prst="rect">
              <a:avLst/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97120" y="2925720"/>
            <a:ext cx="10065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8380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2195280" cy="6857640"/>
            <a:chOff x="0" y="0"/>
            <a:chExt cx="2195280" cy="685764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1756080" cy="6857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>
              <a:hlinkClick r:id="rId4" action="ppaction://hlinksldjump"/>
            </p:cNvPr>
            <p:cNvSpPr/>
            <p:nvPr/>
          </p:nvSpPr>
          <p:spPr>
            <a:xfrm>
              <a:off x="526680" y="1692360"/>
              <a:ext cx="702360" cy="1068480"/>
            </a:xfrm>
            <a:custGeom>
              <a:avLst/>
              <a:gdLst>
                <a:gd name="textAreaLeft" fmla="*/ 45360 w 702360"/>
                <a:gd name="textAreaRight" fmla="*/ 657000 w 702360"/>
                <a:gd name="textAreaTop" fmla="*/ 45360 h 1068480"/>
                <a:gd name="textAreaBottom" fmla="*/ 1023120 h 1068480"/>
              </a:gdLst>
              <a:ahLst/>
              <a:rect l="textAreaLeft" t="textAreaTop" r="textAreaRight" b="textAreaBottom"/>
              <a:pathLst>
                <a:path w="21600" h="32854">
                  <a:moveTo>
                    <a:pt x="0" y="0"/>
                  </a:moveTo>
                  <a:lnTo>
                    <a:pt x="21600" y="0"/>
                  </a:lnTo>
                  <a:lnTo>
                    <a:pt x="21600" y="32854"/>
                  </a:lnTo>
                  <a:lnTo>
                    <a:pt x="0" y="32854"/>
                  </a:lnTo>
                  <a:close/>
                </a:path>
                <a:path fill="lightenLess" w="21600" h="3285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2854">
                  <a:moveTo>
                    <a:pt x="21600" y="0"/>
                  </a:moveTo>
                  <a:lnTo>
                    <a:pt x="21600" y="32854"/>
                  </a:lnTo>
                  <a:lnTo>
                    <a:pt x="20200" y="31454"/>
                  </a:lnTo>
                  <a:lnTo>
                    <a:pt x="20200" y="1400"/>
                  </a:lnTo>
                  <a:close/>
                </a:path>
                <a:path fill="darkenLess" w="21600" h="32854">
                  <a:moveTo>
                    <a:pt x="21600" y="32854"/>
                  </a:moveTo>
                  <a:lnTo>
                    <a:pt x="0" y="32854"/>
                  </a:lnTo>
                  <a:lnTo>
                    <a:pt x="1400" y="31454"/>
                  </a:lnTo>
                  <a:lnTo>
                    <a:pt x="20200" y="31454"/>
                  </a:lnTo>
                  <a:close/>
                </a:path>
                <a:path fill="lighten" w="21600" h="32854">
                  <a:moveTo>
                    <a:pt x="0" y="3285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1454"/>
                  </a:lnTo>
                  <a:close/>
                </a:path>
              </a:pathLst>
            </a:custGeom>
            <a:gradFill rotWithShape="0">
              <a:gsLst>
                <a:gs pos="0">
                  <a:srgbClr val="653c28"/>
                </a:gs>
                <a:gs pos="50000">
                  <a:srgbClr val="ff9966"/>
                </a:gs>
                <a:gs pos="100000">
                  <a:srgbClr val="653c28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书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>
              <a:hlinkClick r:id="rId5" action="ppaction://hlinksldjump"/>
            </p:cNvPr>
            <p:cNvSpPr/>
            <p:nvPr/>
          </p:nvSpPr>
          <p:spPr>
            <a:xfrm>
              <a:off x="526680" y="2849760"/>
              <a:ext cx="702360" cy="1068480"/>
            </a:xfrm>
            <a:custGeom>
              <a:avLst/>
              <a:gdLst>
                <a:gd name="textAreaLeft" fmla="*/ 45360 w 702360"/>
                <a:gd name="textAreaRight" fmla="*/ 657000 w 702360"/>
                <a:gd name="textAreaTop" fmla="*/ 45360 h 1068480"/>
                <a:gd name="textAreaBottom" fmla="*/ 1023120 h 1068480"/>
              </a:gdLst>
              <a:ahLst/>
              <a:rect l="textAreaLeft" t="textAreaTop" r="textAreaRight" b="textAreaBottom"/>
              <a:pathLst>
                <a:path w="21600" h="32854">
                  <a:moveTo>
                    <a:pt x="0" y="0"/>
                  </a:moveTo>
                  <a:lnTo>
                    <a:pt x="21600" y="0"/>
                  </a:lnTo>
                  <a:lnTo>
                    <a:pt x="21600" y="32854"/>
                  </a:lnTo>
                  <a:lnTo>
                    <a:pt x="0" y="32854"/>
                  </a:lnTo>
                  <a:close/>
                </a:path>
                <a:path fill="lightenLess" w="21600" h="3285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2854">
                  <a:moveTo>
                    <a:pt x="21600" y="0"/>
                  </a:moveTo>
                  <a:lnTo>
                    <a:pt x="21600" y="32854"/>
                  </a:lnTo>
                  <a:lnTo>
                    <a:pt x="20200" y="31454"/>
                  </a:lnTo>
                  <a:lnTo>
                    <a:pt x="20200" y="1400"/>
                  </a:lnTo>
                  <a:close/>
                </a:path>
                <a:path fill="darkenLess" w="21600" h="32854">
                  <a:moveTo>
                    <a:pt x="21600" y="32854"/>
                  </a:moveTo>
                  <a:lnTo>
                    <a:pt x="0" y="32854"/>
                  </a:lnTo>
                  <a:lnTo>
                    <a:pt x="1400" y="31454"/>
                  </a:lnTo>
                  <a:lnTo>
                    <a:pt x="20200" y="31454"/>
                  </a:lnTo>
                  <a:close/>
                </a:path>
                <a:path fill="lighten" w="21600" h="32854">
                  <a:moveTo>
                    <a:pt x="0" y="3285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1454"/>
                  </a:lnTo>
                  <a:close/>
                </a:path>
              </a:pathLst>
            </a:custGeom>
            <a:gradFill rotWithShape="0">
              <a:gsLst>
                <a:gs pos="0">
                  <a:srgbClr val="653c28"/>
                </a:gs>
                <a:gs pos="50000">
                  <a:srgbClr val="ff9966"/>
                </a:gs>
                <a:gs pos="100000">
                  <a:srgbClr val="653c28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法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>
              <a:hlinkClick r:id="rId6" action="ppaction://hlinksldjump"/>
            </p:cNvPr>
            <p:cNvSpPr/>
            <p:nvPr/>
          </p:nvSpPr>
          <p:spPr>
            <a:xfrm>
              <a:off x="526680" y="4007880"/>
              <a:ext cx="702360" cy="1068480"/>
            </a:xfrm>
            <a:custGeom>
              <a:avLst/>
              <a:gdLst>
                <a:gd name="textAreaLeft" fmla="*/ 45360 w 702360"/>
                <a:gd name="textAreaRight" fmla="*/ 657000 w 702360"/>
                <a:gd name="textAreaTop" fmla="*/ 45360 h 1068480"/>
                <a:gd name="textAreaBottom" fmla="*/ 1023120 h 1068480"/>
              </a:gdLst>
              <a:ahLst/>
              <a:rect l="textAreaLeft" t="textAreaTop" r="textAreaRight" b="textAreaBottom"/>
              <a:pathLst>
                <a:path w="21600" h="32854">
                  <a:moveTo>
                    <a:pt x="0" y="0"/>
                  </a:moveTo>
                  <a:lnTo>
                    <a:pt x="21600" y="0"/>
                  </a:lnTo>
                  <a:lnTo>
                    <a:pt x="21600" y="32854"/>
                  </a:lnTo>
                  <a:lnTo>
                    <a:pt x="0" y="32854"/>
                  </a:lnTo>
                  <a:close/>
                </a:path>
                <a:path fill="lightenLess" w="21600" h="3285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2854">
                  <a:moveTo>
                    <a:pt x="21600" y="0"/>
                  </a:moveTo>
                  <a:lnTo>
                    <a:pt x="21600" y="32854"/>
                  </a:lnTo>
                  <a:lnTo>
                    <a:pt x="20200" y="31454"/>
                  </a:lnTo>
                  <a:lnTo>
                    <a:pt x="20200" y="1400"/>
                  </a:lnTo>
                  <a:close/>
                </a:path>
                <a:path fill="darkenLess" w="21600" h="32854">
                  <a:moveTo>
                    <a:pt x="21600" y="32854"/>
                  </a:moveTo>
                  <a:lnTo>
                    <a:pt x="0" y="32854"/>
                  </a:lnTo>
                  <a:lnTo>
                    <a:pt x="1400" y="31454"/>
                  </a:lnTo>
                  <a:lnTo>
                    <a:pt x="20200" y="31454"/>
                  </a:lnTo>
                  <a:close/>
                </a:path>
                <a:path fill="lighten" w="21600" h="32854">
                  <a:moveTo>
                    <a:pt x="0" y="3285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1454"/>
                  </a:lnTo>
                  <a:close/>
                </a:path>
              </a:pathLst>
            </a:custGeom>
            <a:gradFill rotWithShape="0">
              <a:gsLst>
                <a:gs pos="0">
                  <a:srgbClr val="653c28"/>
                </a:gs>
                <a:gs pos="50000">
                  <a:srgbClr val="ff9966"/>
                </a:gs>
                <a:gs pos="100000">
                  <a:srgbClr val="653c28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欣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>
              <a:hlinkClick r:id="rId7" action="ppaction://hlinksldjump"/>
            </p:cNvPr>
            <p:cNvSpPr/>
            <p:nvPr/>
          </p:nvSpPr>
          <p:spPr>
            <a:xfrm>
              <a:off x="526680" y="5165640"/>
              <a:ext cx="702360" cy="1068480"/>
            </a:xfrm>
            <a:custGeom>
              <a:avLst/>
              <a:gdLst>
                <a:gd name="textAreaLeft" fmla="*/ 45360 w 702360"/>
                <a:gd name="textAreaRight" fmla="*/ 657000 w 702360"/>
                <a:gd name="textAreaTop" fmla="*/ 45360 h 1068480"/>
                <a:gd name="textAreaBottom" fmla="*/ 1023120 h 1068480"/>
              </a:gdLst>
              <a:ahLst/>
              <a:rect l="textAreaLeft" t="textAreaTop" r="textAreaRight" b="textAreaBottom"/>
              <a:pathLst>
                <a:path w="21600" h="32854">
                  <a:moveTo>
                    <a:pt x="0" y="0"/>
                  </a:moveTo>
                  <a:lnTo>
                    <a:pt x="21600" y="0"/>
                  </a:lnTo>
                  <a:lnTo>
                    <a:pt x="21600" y="32854"/>
                  </a:lnTo>
                  <a:lnTo>
                    <a:pt x="0" y="32854"/>
                  </a:lnTo>
                  <a:close/>
                </a:path>
                <a:path fill="lightenLess" w="21600" h="3285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2854">
                  <a:moveTo>
                    <a:pt x="21600" y="0"/>
                  </a:moveTo>
                  <a:lnTo>
                    <a:pt x="21600" y="32854"/>
                  </a:lnTo>
                  <a:lnTo>
                    <a:pt x="20200" y="31454"/>
                  </a:lnTo>
                  <a:lnTo>
                    <a:pt x="20200" y="1400"/>
                  </a:lnTo>
                  <a:close/>
                </a:path>
                <a:path fill="darkenLess" w="21600" h="32854">
                  <a:moveTo>
                    <a:pt x="21600" y="32854"/>
                  </a:moveTo>
                  <a:lnTo>
                    <a:pt x="0" y="32854"/>
                  </a:lnTo>
                  <a:lnTo>
                    <a:pt x="1400" y="31454"/>
                  </a:lnTo>
                  <a:lnTo>
                    <a:pt x="20200" y="31454"/>
                  </a:lnTo>
                  <a:close/>
                </a:path>
                <a:path fill="lighten" w="21600" h="32854">
                  <a:moveTo>
                    <a:pt x="0" y="3285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31454"/>
                  </a:lnTo>
                  <a:close/>
                </a:path>
              </a:pathLst>
            </a:custGeom>
            <a:gradFill rotWithShape="0">
              <a:gsLst>
                <a:gs pos="0">
                  <a:srgbClr val="653c28"/>
                </a:gs>
                <a:gs pos="50000">
                  <a:srgbClr val="ff9966"/>
                </a:gs>
                <a:gs pos="100000">
                  <a:srgbClr val="653c28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4520" y="267120"/>
              <a:ext cx="702360" cy="9795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2360" y="356400"/>
              <a:ext cx="175680" cy="5342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3920" y="88920"/>
              <a:ext cx="263160" cy="667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6080" y="267120"/>
              <a:ext cx="439200" cy="63234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427640" y="0"/>
            <a:ext cx="4465440" cy="947160"/>
          </a:xfrm>
          <a:prstGeom prst="rect">
            <a:avLst/>
          </a:prstGeom>
          <a:solidFill>
            <a:srgbClr val="ffffff"/>
          </a:solidFill>
          <a:ln w="95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宋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3366cc"/>
                </a:solidFill>
                <a:latin typeface="宋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沁园春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雪》写于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1936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年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3366cc"/>
                </a:solidFill>
                <a:latin typeface="华文楷体"/>
                <a:ea typeface="华文楷体"/>
              </a:rPr>
              <a:t>月。遵义会议确立了毛泽东在全党全军的领导地位。毛泽东率长征部队胜利到达陕北后，领导全党展开了反抗日本帝国主义的伟大斗争。在陕北清涧县，毛泽东同志曾于一场大雪之后攀登到海拔千米、白雪覆盖的塬上视察地形。面对祖国的壮丽河山、茫茫雪景，毛泽东意气风发，豪情满怀，写下了这首气吞山河的壮丽诗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4000" y="3789360"/>
            <a:ext cx="1082520" cy="1008360"/>
          </a:xfrm>
          <a:prstGeom prst="rect">
            <a:avLst/>
          </a:prstGeom>
          <a:solidFill>
            <a:srgbClr val="99ccff"/>
          </a:solid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87280" y="4292640"/>
            <a:ext cx="1040040" cy="10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050920" y="4797360"/>
            <a:ext cx="998640" cy="100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843280" y="5229360"/>
            <a:ext cx="1008000" cy="1008360"/>
          </a:xfrm>
          <a:prstGeom prst="rect">
            <a:avLst/>
          </a:prstGeom>
          <a:solidFill>
            <a:srgbClr val="33cccc"/>
          </a:solid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rcRect l="11453" t="0" r="12885" b="0"/>
          <a:stretch/>
        </p:blipFill>
        <p:spPr>
          <a:xfrm>
            <a:off x="611280" y="260280"/>
            <a:ext cx="3119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83664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907920"/>
            <a:ext cx="5977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自由朗读课文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要求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读准字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注意停顿，把握节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读出感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07920" y="62064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齐读课文，读出诗歌的意境美、气势美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907920"/>
            <a:ext cx="720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理解诗意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结合页下注释，理解诗歌内容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68544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整体感知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总写北国雪景的句子是哪几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作者以“望”统领哪几句，都望到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上阕中哪几句是实景，哪几句是虚景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“江山如此多娇，引无数英雄竞折腰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结构上起什么作用？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诗人对历代英雄的评论体现在哪个字上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包含了怎样的感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找出最能体现这首词主旨的诗句。如何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07:38:33Z</dcterms:created>
  <dc:creator>lenovo</dc:creator>
  <dc:description/>
  <dc:language>en-US</dc:language>
  <cp:lastModifiedBy>deeplm</cp:lastModifiedBy>
  <dcterms:modified xsi:type="dcterms:W3CDTF">2015-05-20T01:19:42Z</dcterms:modified>
  <cp:revision>13</cp:revision>
  <dc:subject/>
  <dc:title>幻灯片 1</dc:title>
</cp:coreProperties>
</file>